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862-443C-47BA-9FC6-A1AB3A7C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544-D9F9-47B9-B49A-540E5D7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2E2-EC9D-4604-BC0E-B2727F0A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445-B76E-4A77-9DF2-59C5D7AF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8A7A-C7D1-4112-88F4-F45F3D39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02C7-5DBE-458B-A5C5-1CBF3138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443F-F7DB-4095-896F-2E13DF92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B3F0-6326-4DD8-9921-BB10BC76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0C8E-FA2A-4223-B1F3-AD44602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96E8-C801-4AD1-A9E1-1FDA030C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8DD1-F79B-4AD6-B6AA-382E425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977-C65C-435E-B712-FAFC5E26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26CD-F01A-4987-9154-692AE53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890C-8998-4E6B-8862-F35741C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3B4F-971A-4346-BDB2-EC3B779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A156-B006-4C85-95AD-B351E8E7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6EB9-5B2A-42A1-9C38-91A9E3C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4BE-1875-4D73-A0D6-9464D20B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475-9CA4-4336-93F8-3F0AC42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F91-C17E-4F06-B429-9D1129E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F31-BA40-4416-B35E-F12040CE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CE1-A59C-41D7-838F-E84664B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4E3-AF73-487D-AEE6-BD00B5F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F48-8E88-4A91-B2BF-4A68E83B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5778-D31C-4631-AEF5-9E6E3A6FA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49A-0458-4119-8019-C2791546E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Remnant Shall Return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Si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47-1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C659-9B44-4C51-A4A2-DF0123EC5A32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Zealo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ably formed after the Romans took control of Ju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litical group with little impact on the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d they were to establish God’s predicted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God would come to their 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y would enjoy a glorious political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on Zelotes (the Zealot) was one of Jesus’ twelve apos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8BD-DF86-4650-A3B1-438F81D2E2CA}" type="slidenum">
              <a:t>10</a:t>
            </a:fld>
          </a:p>
        </p:txBody>
      </p:sp>
    </p:spTree>
  </p:cSld>
  <p:transition>
    <p:zoom dir="in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Sanhedri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ewish high cou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ebrew spelling of a Greek word that means “a senate” (a governing 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have been formed during the Greek-Syrian occupation of Ju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d generally of seventy judges (el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probably taken from Num. 11:16-24 and Exod. 24:1, 9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CC8-1170-4261-9682-9DFBB50B240D}" type="slidenum">
              <a:t>11</a:t>
            </a:fld>
          </a:p>
        </p:txBody>
      </p:sp>
    </p:spTree>
  </p:cSld>
  <p:transition>
    <p:zoom dir="in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Sanhedri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nhedrin, along with the High Priest, made up the local government of the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days of the New Testament, it was the Jews’ highest author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authority was controlled and limited by the Rom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study more about the Romans in the next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8E8-DCBD-4D91-82F8-E555D42BB954}" type="slidenum">
              <a:t>12</a:t>
            </a:fld>
          </a:p>
        </p:txBody>
      </p:sp>
    </p:spTree>
  </p:cSld>
  <p:transition>
    <p:zoom dir="in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ere We Left Off...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ccabees had gained independence for Judea from a weakened Sy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on (143-134 B.C.), last son of Mattathias Hasmoneas, ha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laimed the te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rid the land of the Syrians and Zeus ido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Hyrcanus (134-105 B.C.), Simon’s son, was the “High Prie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Jewish traditions and sects have beg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3B0-859E-4C60-AD7B-00BA4FE2481C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piritual Condition Of The Jew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ptivity taught them a lesson - idolatry was wro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they neglected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ra led the peop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ure the purity of their wo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themselves from their foreign w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themselves from the people of the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hemiah and Malachi stressed obe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8A6-08E4-4E58-A398-854FB5065FFD}" type="slidenum">
              <a:t>3</a:t>
            </a:fld>
          </a:p>
        </p:txBody>
      </p:sp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Hasidi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idim, or a group of “pious on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ly spiritually mi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sued keeping the law carefu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object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ear God’s curse if they did not ob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btain His blessings though obed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velop the idea of a kingdom of pri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rituals and ceremon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duce the law to a set of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cribes became an important part of this eff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792-1D30-4A04-A114-DF45210F6021}" type="slidenum">
              <a:t>4</a:t>
            </a:fld>
          </a:p>
        </p:txBody>
      </p:sp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Hasidim Cre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“Halakhah” - a collection of traditions and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“Haggadah” - comprised of parables, folklore, history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mud” - documented the oral traditions (still exists tod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Talmud more binding than the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were scribes, rabbis, Jewish schol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E89-5BFF-479F-9391-F921D1E58D67}" type="slidenum">
              <a:t>5</a:t>
            </a:fld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harise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s “separated on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mall party formed from the Hasid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little information on when or how this group be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y influential party among the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the opposition party to the Maccab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d strongly to the Jews’ tra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re closely united with the scri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DBC-7EE7-4320-BD9E-84E5225B4D9A}" type="slidenum">
              <a:t>6</a:t>
            </a:fld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harise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strict in the laws with “outward appearanc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cts 26:5, Paul called the Pharisees “the straitest sect of our religion” (the Jewish relig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see a lot of them in our study of the New Testa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446-AFCB-452B-AA01-A8821C240F44}" type="slidenum">
              <a:t>7</a:t>
            </a:fld>
          </a:p>
        </p:txBody>
      </p:sp>
    </p:spTree>
  </p:cSld>
  <p:transition>
    <p:zoom dir="in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Sadduce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litical party of the aristocratic pri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tle popularity among the common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ed Judea to compromise with the Gr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d the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d in God and the law, but not the traditions of the scribes and the Pharis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not believe in the resurrection, nor in angels, or the hereafter (the spirit world) (Acts 23: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44C-C5A6-4619-BDA0-224E98DED790}" type="slidenum">
              <a:t>8</a:t>
            </a:fld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Essen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ed the Pharisees because they were too lenient and not strict enough in their opposition to the Gr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no impact on the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withdrawn from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a very austere, communal type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y have copied, collected and hidden the Dead Sea Scrolls which were found in 19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C27-7568-4A49-89BC-1C437720D47B}" type="slidenum">
              <a:t>9</a:t>
            </a:fld>
          </a:p>
        </p:txBody>
      </p:sp>
    </p:spTree>
  </p:cSld>
  <p:transition>
    <p:zoom dir="in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4:24:39Z</dcterms:created>
  <dc:creator>Don Vines</dc:creator>
  <dc:description/>
  <dc:language>en-US</dc:language>
  <cp:lastModifiedBy>Frank D Vines</cp:lastModifiedBy>
  <dcterms:modified xsi:type="dcterms:W3CDTF">2006-06-29T18:57:19Z</dcterms:modified>
  <cp:revision>20</cp:revision>
  <dc:subject/>
  <dc:title>“A Remnant Shall Return”</dc:title>
</cp:coreProperties>
</file>